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llwrong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D6D-D888-4284-9DF1-DA87DFF5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848-A6F1-4E21-B965-3B0B21E2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782-7E2D-4D28-A91C-A3296BD9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476-C43A-47C3-97FF-DE828897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FE1-BD5B-40EC-9661-3677F135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489-37BF-4896-947E-466B0B6E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60D-DBD3-4037-A2A6-BE33F79F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ABB-58D2-43F3-A23A-95DF048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57F-6DB1-4766-BE98-F1D97A32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4C9-85E5-42AE-8F3B-21284F29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68E-B498-4C02-83F8-881B8DD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1F8-D78D-433D-AFF5-C4F218C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003B-94C9-4D59-9012-433C53BC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allwron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atements and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Tracie K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se dogs are very dir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know what time it 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ment  is a sentence that tells something. It ends with a period (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ssages can b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nt in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fferent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ssages can be written or spoken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sky is b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304920"/>
            <a:ext cx="144756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ion is a sentence that ask something. It ends with a question mark (?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know a secret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lashlight be used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se Co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moke signals one kin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34320" y="609480"/>
            <a:ext cx="17049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have a favorite to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people are funn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50:13Z</dcterms:created>
  <dc:creator>student</dc:creator>
  <dc:description/>
  <dc:language>en-US</dc:language>
  <cp:lastModifiedBy>student</cp:lastModifiedBy>
  <dcterms:modified xsi:type="dcterms:W3CDTF">2007-05-30T17:50:49Z</dcterms:modified>
  <cp:revision>4</cp:revision>
  <dc:subject/>
  <dc:title>Statements and Questions</dc:title>
</cp:coreProperties>
</file>